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E58B-F9E9-4F67-8468-4FDA652AD6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C689-D363-4034-B1DA-C186A65921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594A-68B7-48FE-94F2-C54924F62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3C77-F4D8-4AFA-8B2F-493899D323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40D3-4892-4068-B908-B3481D690C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BF6D-CA92-4F38-8421-E2204B7DA6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28A10-DCCD-4A82-9CA5-FE00C66D46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A834-44F2-475E-A4D0-4D9230F59B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6C1C-06A3-4C86-B502-1B00F3C7F2E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434-9502-4636-9910-72321DC8FD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73B5-5764-4536-80F8-BE1188779A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3BB1-8F47-4C9D-A7B1-D8FD8957BC8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35B3-DC32-441B-8E91-CF5EC1AAD9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6194-8016-45B6-A523-7F3A7557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130-BB9C-42E2-ABD0-27D3EC86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C456-C4B4-4C29-9D65-99DCAD30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2BD-C432-49CD-9E18-82D91E3C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E230-A11F-481B-9883-A439B07E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BE5F-F257-4B8B-B547-4D9F2198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9F45-185B-4680-9EB1-63FF5856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6654-DCFB-42AC-A97B-0B7B7FCD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14CC-7325-4AED-BD77-F672D76C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48DCE-A584-4C38-AFDA-A7F9D8FF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F557-AC78-4F82-80CF-C0B4F57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F3B-85F2-4ABC-BED9-7B4D4792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838-4D04-4965-8851-300CE416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E59F-2D14-4A39-B38A-3C3B23AF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F33A-8ED3-40B3-9EF0-ED8FD343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A84-665C-4734-A2D8-43CD18E8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78CB-AF55-4952-866E-1E877797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9EE-E513-468A-B8F0-2A94B46B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35B-ACC5-4138-856E-463F887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DBA-B833-40F2-8EC3-CE0E43E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EF6-FDF1-4FBE-ADEA-73DDCCCB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BA4-99AE-4890-B3D0-AA4F2DE4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4AA-F5C7-4095-80A1-206C809C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EF4F-1A0D-499D-9978-7AD3D02E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7F28-DD1E-4FF8-ABB8-ED44169D8A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F873-D3DD-41C4-A46A-42E779571BF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4-25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712800"/>
          <a:ext cx="8785440" cy="603252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6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24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617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 941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спутниковой океанограф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Гранты (конкурсы)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выигранные студентами, аспирантами, молодыми учеными и молодыми кандидатами наук РГГМУ</a:t>
            </a:r>
            <a:endParaRPr b="0" lang="en-US" sz="1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81080" y="1486080"/>
          <a:ext cx="8543880" cy="53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486080"/>
                    <a:ext cx="854388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личество студентов и аспирантов, участвовавши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в выполнении НИР темплана РГГМУ в 2011 году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828720" y="1992240"/>
          <a:ext cx="7277040" cy="332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992240"/>
                    <a:ext cx="7277040" cy="33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Участие в выставках и конференциях в 201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ffffff"/>
                </a:solidFill>
                <a:latin typeface="Bookman Old Style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ff0000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ff0000"/>
                </a:solidFill>
                <a:latin typeface="Bookman Old Style"/>
              </a:rPr>
              <a:t>1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Издательская деятельность в 201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6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4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2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ступительное сло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ектор, д.ф-м.н., проф. Л.Н. Карли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учная деятельность университета в 2011 год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оректор по НР, к.г.н., проф. В.Н. Воробье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временное состояние морской природной среды в районах подводных отвалов грунта  в восточной части Финского зали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Шилин М.Б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д.г.н., проф. (каф. ПО и ОП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лияние климатической нормы приземной температуры воздуха на фрактальную размерность рядов многолетнего речного сто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айдукова Е.В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.т.н., доцент (каф. Гидрофизики и гидропрогнозов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ормационные технологии в учебном процесс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Истомин Е.П. д.э.н., проф., декан факультета Информационных систем и геотехнолог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нешние технологии в исследовании состояния качества сложных природно-технически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узалевский А.А. д.т.н., проф. (каф. Экологи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колого-экономические характеристики инвестиционных проек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етрова Е.Е. к.э.н., зав. каф. Экономики предприятия и учетных сист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оль воды в механизме солнечно-земных связе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Чукин В. В. к.ф-м.н., доц.  (каф. ЭФ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научно-методического обеспечения использования веб-технологий при подготовке профессиональных кадр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Трубина М.А. к.г.н., нач. ИВЦ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11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765000"/>
          <a:ext cx="6983280" cy="5775480"/>
        </p:xfrm>
        <a:graphic>
          <a:graphicData uri="http://schemas.openxmlformats.org/drawingml/2006/table">
            <a:tbl>
              <a:tblPr/>
              <a:tblGrid>
                <a:gridCol w="441360"/>
                <a:gridCol w="654192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6520" y="291960"/>
            <a:ext cx="8138880" cy="71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в 201</a:t>
            </a:r>
            <a:r>
              <a:rPr b="1" lang="en-US" sz="26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600" spc="-1" strike="noStrike">
                <a:solidFill>
                  <a:srgbClr val="ffffff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8000" y="1341360"/>
          <a:ext cx="8785080" cy="460872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1611360"/>
                <a:gridCol w="244944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97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6 88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 795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 3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 248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810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10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</a:t>
                      </a: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AutoShape 674"/>
          <p:cNvSpPr/>
          <p:nvPr/>
        </p:nvSpPr>
        <p:spPr>
          <a:xfrm flipH="1">
            <a:off x="8674920" y="292428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678"/>
          <p:cNvSpPr/>
          <p:nvPr/>
        </p:nvSpPr>
        <p:spPr>
          <a:xfrm>
            <a:off x="8675640" y="3860640"/>
            <a:ext cx="144360" cy="287640"/>
          </a:xfrm>
          <a:prstGeom prst="downArrow">
            <a:avLst>
              <a:gd name="adj1" fmla="val 50000"/>
              <a:gd name="adj2" fmla="val 4981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687"/>
          <p:cNvSpPr/>
          <p:nvPr/>
        </p:nvSpPr>
        <p:spPr>
          <a:xfrm flipH="1">
            <a:off x="8674920" y="5516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06"/>
          <p:cNvSpPr/>
          <p:nvPr/>
        </p:nvSpPr>
        <p:spPr>
          <a:xfrm flipH="1">
            <a:off x="8674920" y="3429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807"/>
          <p:cNvSpPr/>
          <p:nvPr/>
        </p:nvSpPr>
        <p:spPr>
          <a:xfrm flipH="1">
            <a:off x="8674920" y="4653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809"/>
          <p:cNvSpPr/>
          <p:nvPr/>
        </p:nvSpPr>
        <p:spPr>
          <a:xfrm flipH="1">
            <a:off x="8674920" y="508464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810"/>
          <p:cNvSpPr/>
          <p:nvPr/>
        </p:nvSpPr>
        <p:spPr>
          <a:xfrm>
            <a:off x="6227640" y="429264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811"/>
          <p:cNvSpPr/>
          <p:nvPr/>
        </p:nvSpPr>
        <p:spPr>
          <a:xfrm flipH="1">
            <a:off x="6227640" y="508464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814"/>
          <p:cNvSpPr/>
          <p:nvPr/>
        </p:nvSpPr>
        <p:spPr>
          <a:xfrm>
            <a:off x="8675640" y="429264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815"/>
          <p:cNvSpPr/>
          <p:nvPr/>
        </p:nvSpPr>
        <p:spPr>
          <a:xfrm>
            <a:off x="6227640" y="5589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817"/>
          <p:cNvSpPr/>
          <p:nvPr/>
        </p:nvSpPr>
        <p:spPr>
          <a:xfrm flipH="1">
            <a:off x="8603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62"/>
          <p:cNvSpPr/>
          <p:nvPr/>
        </p:nvSpPr>
        <p:spPr>
          <a:xfrm>
            <a:off x="6227640" y="3860640"/>
            <a:ext cx="146160" cy="287640"/>
          </a:xfrm>
          <a:prstGeom prst="downArrow">
            <a:avLst>
              <a:gd name="adj1" fmla="val 50000"/>
              <a:gd name="adj2" fmla="val 492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63"/>
          <p:cNvSpPr/>
          <p:nvPr/>
        </p:nvSpPr>
        <p:spPr>
          <a:xfrm flipH="1">
            <a:off x="6227640" y="2349360"/>
            <a:ext cx="144720" cy="287640"/>
          </a:xfrm>
          <a:prstGeom prst="upArrow">
            <a:avLst>
              <a:gd name="adj1" fmla="val 50000"/>
              <a:gd name="adj2" fmla="val 4968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864"/>
          <p:cNvSpPr/>
          <p:nvPr/>
        </p:nvSpPr>
        <p:spPr>
          <a:xfrm flipH="1">
            <a:off x="6227640" y="2924280"/>
            <a:ext cx="144720" cy="287280"/>
          </a:xfrm>
          <a:prstGeom prst="upArrow">
            <a:avLst>
              <a:gd name="adj1" fmla="val 50000"/>
              <a:gd name="adj2" fmla="val 4962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АВЦП, ФЦП в 20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3" name="Object 312"/>
          <p:cNvGraphicFramePr/>
          <p:nvPr/>
        </p:nvGraphicFramePr>
        <p:xfrm>
          <a:off x="971640" y="971640"/>
          <a:ext cx="8267760" cy="588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71640"/>
                    <a:ext cx="8267760" cy="58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 в 201</a:t>
            </a:r>
            <a:r>
              <a:rPr b="1" lang="en-US" sz="20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 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9640" y="765000"/>
          <a:ext cx="8353440" cy="5494680"/>
        </p:xfrm>
        <a:graphic>
          <a:graphicData uri="http://schemas.openxmlformats.org/drawingml/2006/table">
            <a:tbl>
              <a:tblPr/>
              <a:tblGrid>
                <a:gridCol w="3540240"/>
                <a:gridCol w="1789200"/>
                <a:gridCol w="3024000"/>
              </a:tblGrid>
              <a:tr h="509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350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57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 406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41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Лаборатория спутниковой океаногра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 137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AutoShape 1117"/>
          <p:cNvSpPr/>
          <p:nvPr/>
        </p:nvSpPr>
        <p:spPr>
          <a:xfrm>
            <a:off x="558000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118"/>
          <p:cNvSpPr/>
          <p:nvPr/>
        </p:nvSpPr>
        <p:spPr>
          <a:xfrm>
            <a:off x="867564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119"/>
          <p:cNvSpPr/>
          <p:nvPr/>
        </p:nvSpPr>
        <p:spPr>
          <a:xfrm>
            <a:off x="867564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121"/>
          <p:cNvSpPr/>
          <p:nvPr/>
        </p:nvSpPr>
        <p:spPr>
          <a:xfrm>
            <a:off x="8675640" y="1341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123"/>
          <p:cNvSpPr/>
          <p:nvPr/>
        </p:nvSpPr>
        <p:spPr>
          <a:xfrm>
            <a:off x="5580000" y="1700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24"/>
          <p:cNvSpPr/>
          <p:nvPr/>
        </p:nvSpPr>
        <p:spPr>
          <a:xfrm>
            <a:off x="5580000" y="371628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125"/>
          <p:cNvSpPr/>
          <p:nvPr/>
        </p:nvSpPr>
        <p:spPr>
          <a:xfrm>
            <a:off x="867564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126"/>
          <p:cNvSpPr/>
          <p:nvPr/>
        </p:nvSpPr>
        <p:spPr>
          <a:xfrm>
            <a:off x="5580000" y="3213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27"/>
          <p:cNvSpPr/>
          <p:nvPr/>
        </p:nvSpPr>
        <p:spPr>
          <a:xfrm>
            <a:off x="8675640" y="3789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128"/>
          <p:cNvSpPr/>
          <p:nvPr/>
        </p:nvSpPr>
        <p:spPr>
          <a:xfrm>
            <a:off x="8675640" y="4365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129"/>
          <p:cNvSpPr/>
          <p:nvPr/>
        </p:nvSpPr>
        <p:spPr>
          <a:xfrm>
            <a:off x="867564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1154"/>
          <p:cNvSpPr/>
          <p:nvPr/>
        </p:nvSpPr>
        <p:spPr>
          <a:xfrm>
            <a:off x="8675640" y="5805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155"/>
          <p:cNvSpPr/>
          <p:nvPr/>
        </p:nvSpPr>
        <p:spPr>
          <a:xfrm>
            <a:off x="5580000" y="4797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156"/>
          <p:cNvSpPr/>
          <p:nvPr/>
        </p:nvSpPr>
        <p:spPr>
          <a:xfrm>
            <a:off x="5580000" y="213372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157"/>
          <p:cNvSpPr/>
          <p:nvPr/>
        </p:nvSpPr>
        <p:spPr>
          <a:xfrm>
            <a:off x="558000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158"/>
          <p:cNvSpPr/>
          <p:nvPr/>
        </p:nvSpPr>
        <p:spPr>
          <a:xfrm>
            <a:off x="8675640" y="263700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Сведения по НИР за 201</a:t>
            </a: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1</a:t>
            </a:r>
            <a:r>
              <a:rPr b="1" lang="ru-RU" sz="2200" spc="-1" strike="noStrike">
                <a:solidFill>
                  <a:srgbClr val="ffffff"/>
                </a:solidFill>
                <a:latin typeface="Bookman Old Style"/>
              </a:rPr>
              <a:t>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468360" y="1052640"/>
          <a:ext cx="8424720" cy="561312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 59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4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 15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 1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 5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44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9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2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90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500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8406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 09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5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,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6 158.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.ч.:  -  Морской институт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ИГЭ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3 1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- Лаборатория  спутниковой океанограф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25 0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083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 24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9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8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3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10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5613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</a:t>
            </a:r>
            <a:r>
              <a:rPr b="1" lang="en-US" sz="2400" spc="-1" strike="noStrike">
                <a:solidFill>
                  <a:srgbClr val="ccecff"/>
                </a:solidFill>
                <a:latin typeface="Bookman Old Style"/>
              </a:rPr>
              <a:t>1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0 85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 09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40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059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634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 8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9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66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 574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07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 506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08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Snt</cp:lastModifiedBy>
  <dcterms:modified xsi:type="dcterms:W3CDTF">2012-07-30T14:01:19Z</dcterms:modified>
  <cp:revision>558</cp:revision>
  <dc:subject/>
  <dc:title>Итоговая сессия Ученого совета РГГМУ</dc:title>
</cp:coreProperties>
</file>